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03F-165E-48D5-ABC2-D213C46B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C88-22A9-44DE-A5E5-D869A6C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31D-B55E-4A09-9372-EA31237D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691-6E12-4C87-90AB-8C252979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C82-B702-4DBF-83FF-CD82A293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94F-AF41-4457-9FE0-488FAF1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D08-A678-4550-968C-CA7089FF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DB3-BB3A-42A6-8148-92A3A831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B26-3AB8-4BE9-A85A-E0783369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398-D6BF-4C10-AA69-B8C71E4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B98-EDBC-4BE9-AC7B-B0EE1FD7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A06-3B33-44D4-8944-9F08D306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1799-45FD-4520-B571-A1029558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5638680" cy="83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121440" cy="754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647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435720" cy="74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61405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36:38Z</dcterms:created>
  <dc:creator>cdoty</dc:creator>
  <dc:description/>
  <dc:language>en-US</dc:language>
  <cp:lastModifiedBy>cdoty</cp:lastModifiedBy>
  <dcterms:modified xsi:type="dcterms:W3CDTF">2009-03-10T15:41:49Z</dcterms:modified>
  <cp:revision>4</cp:revision>
  <dc:subject/>
  <dc:title>Slide 1</dc:title>
</cp:coreProperties>
</file>